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whoosh.wav" ContentType="audio/x-wav"/>
  <Override PartName="/ppt/media/image15.wmf" ContentType="image/x-wmf"/>
  <Override PartName="/ppt/media/image7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6.wmf" ContentType="image/x-wm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2851-6EB4-42D9-9138-A95FECD89A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ersu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nt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e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mana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ction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7487-5933-4A89-BC42-E401C26D3B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hould look like point form notes that the audience would be copy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AE0A-057E-439B-A165-0679C18A157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ines, 6 words per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FACB-D5CF-4566-8FB6-D45CB9E524C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6B6-9D85-4575-96C0-B9B4D007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428-A8C5-4F87-9231-6DD6CEF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ABE07-BE5C-4294-925F-360E51D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2F4B9-41C1-4F86-8271-CAAA0CC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15D0D-E226-4FAF-93C9-9184D26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D8475-F492-47A5-A14C-7CB381E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DF064-ABE2-4DA9-9FC6-DFCD39E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C7B60-B602-43A1-86AD-64A28C1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5D62C-C9FF-44BE-85EC-B4F2BA0B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B7C2A-F523-44C7-ACA2-83F706DE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99AAF-DE66-4D4A-BF14-6A376925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67811-7E7B-4E8A-85A4-F2008BAA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6F4-CCDF-4B44-AE25-61F09580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F6256-CAA8-4EB8-9885-B1EE6D7C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37B7C-576F-44EF-B833-21F0F8B1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47AE4-CFCF-4716-ADE1-0EDC83A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D67E2-9623-4053-99C9-B40FF71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16A21-52A0-480D-9864-B8F7D75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A1424-9C34-46B4-826E-B7BB0DF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C24EB-B9CD-4A45-AF4A-17C9D7C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4BF26-7717-43EA-8407-DD91C54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30CB2-1B35-4869-9B28-38737F8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6CF7B-9DCD-4986-981E-3AF2E884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010-5EBF-43F3-B9B3-C2B407A2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16F2C-973A-431B-B0E5-8F024E6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622952-7C75-4B00-8A15-AD13B4D2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9C3050-35EF-48FB-9A16-573C2751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B1B20-6052-469F-A392-C6FFA29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4B94CF-3709-446A-B793-6B57398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86C2EE-45A2-4C7D-9B7A-EE3059E0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6AA0F5-494E-42E3-87CA-5909B8E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08B65-5010-4F68-9180-96B8E2D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CF652-3682-4729-B9FC-BC53FB7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5119B8-0F04-4432-87BE-CB1C81B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D5FB3A-67B5-48C0-A91C-FDA9B71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588CA-D368-49D8-B922-8288B591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CB6103-6F5A-4683-BEAE-C047E72B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6ED7F-AC3E-421A-97BB-B0062038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72916-F3FD-4757-8EF1-F15B4A3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45F2B-E57D-4787-9671-655858D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D5F7-1797-4A5E-AFE9-7B08057A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D0FA1-4750-41F4-BC79-A2F1AC1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DACEB-3106-481F-8DAA-FD26086D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2B461-7C57-411F-A1BA-254A2A9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44611-A58E-4046-9858-8E98FD8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207D4-C8F4-4B84-BE92-D47B365C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45AEB-62ED-409E-8F9E-45E2022C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B6C93-2A3B-4615-866F-8C4A02A8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4BBD2-06A7-4591-B35F-6F96417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B9F656-F4E0-42AD-99C3-4CAB3FD7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D14548-E722-49B4-9620-F6A122D4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E0D0D3-D567-45B2-9016-19303F8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0CEC69-3A55-4E92-B060-E69ED8B7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DC53E6-599A-4DD7-91DA-5A3237AD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D57AAD-B6A3-4DAE-A927-09393CD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FECA29-8DF3-4BF0-96AA-4B97DD4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5273F0-2DB2-4D94-8C7A-ADB71B0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645426-1B5C-4B39-A5B5-AAAC54D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23921C-714E-47F0-860D-655807F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A227DB-BCAC-4CD0-A832-959DB56D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0890A6-9556-416C-B21B-0F4CE949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1AD32-F07A-474B-9320-A2AD35BA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EE273-4895-4C9C-A79F-DE1453A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0FEAA-6D0C-45AE-9B0C-0D7A41D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CB83B-4B05-42EE-AF61-213FCE4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F93F2-34E1-48BB-88C1-72C9EAAB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28BC5-DC0F-4478-ADAB-3EEDDBE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5FEBB-A2BD-46BF-81C0-39F44FE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1B7C6-98A1-43E5-84D6-7327353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0D8A6-4352-4AC7-B67B-DEC7C59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DF942-A5FF-46BF-84E4-61369B2A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3C4C2-1CDB-4F5B-9AF2-5460A09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EEC6A-82C3-417F-B6C3-708B5EC0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B2F0F-0264-40E1-8681-599B658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88ADD-1D2E-4580-A784-530152B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AFA06-2527-4789-8DE0-E9674A5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DFDF2-6E7C-4B42-8BF6-6D34C99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B3213-C594-4CF0-A267-94B77C53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1B589-B54C-4506-AA0A-058B142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CD3F6-8B26-43BB-A388-96CA84C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1B5BC-DD3D-4F34-B736-8EA49CE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AFEEB-7406-4447-A639-EFA4CEA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CC219-2029-4E80-8E55-A9CD03C0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EC538-2619-40B1-B37B-0C0D9D7E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109FA-87FB-41D0-B74A-1168ECAE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B6B52-7C9B-4B28-9680-4E89CF83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61734-05BB-4C7A-B4D1-79B52FDB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B5B94-EB0C-480F-A403-29288471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2433B-73FF-4AB7-8EAD-0DAB34B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8D975-CBF5-46A7-8D10-BDC16C13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DD710-15AA-4F9A-A3D8-2604A75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79598-3459-4DF6-BF7E-AB9D90A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BD6-A726-465B-A110-76A35C8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CE907-FEF6-44E8-8DC8-D553CB9D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2AEFB-9309-45D9-A9AE-797028B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B841D-70B0-4177-A13E-12752A7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73731-E022-4B3F-825F-6B660D19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BA736-EAF6-4FE9-B387-0CA09EF2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B3DC2-7CA3-437A-AF88-B1279FFC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53A86-AFFA-47DD-8540-4BFEDCE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41DBC-B8DA-4E4F-8E2F-BD01DBB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877B3-A152-4485-8E32-4A5EE80D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1C26C-9B91-4556-835E-4F7A050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68CEC-2B8F-43F1-98E9-E4E29DED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E9F0F-F2EF-4229-8F59-85A1D20D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FBA6B-CF81-48E2-9C2E-B893012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6EE71-D042-49A6-8A1F-1D1B92F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D0C80-D2FD-4E7D-BE5A-98FBEE0F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C87E5-AD3E-4547-89D9-E9F42AD5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19857-33B9-4392-9EAA-00DBCE68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63C04-676F-443A-BF96-600EC4A0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FE33F-EFCB-490C-8679-CBCB8C1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47359-7C08-4931-8073-2571CA7E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ECB8B-0C34-4049-91C5-D580890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A31BD-94A9-45DA-BF3A-6CF7A1F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C5241-5460-4BB9-AC43-C446E71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5DFF9-042F-4526-B0EC-E6093F2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B1D3E-336D-4244-A4C4-26989FD3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E095A-8FC0-41BC-BA1C-F300536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EEDF9-DDFE-4145-87AF-6907AED6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9CCD1-DF5A-4B8F-9D24-44FA62B9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C9FD3-5923-40C8-90A5-C71E5AD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D9E46-CAC6-4D77-8F11-996A2C50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59976-BBCC-4D6D-A69B-E1B1365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1F8C5-C2F6-4F4D-88CD-292BE52E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52680-9D6E-49C8-B487-1088C1F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35445-F3AB-4763-A523-47ADAAA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CBB04-FF79-439F-B7EA-D3E6A7F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DB850-CBF1-41D1-A138-F9415B2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CE309-57D5-45BA-A72F-BF63594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B4212-6B52-4ADA-8CAC-4942820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F0072-A252-452F-9D1D-A44BF927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87582-253A-4222-BEE2-B0FA50D4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0D5BC-82F8-41A1-8655-50679BB4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FF8BE-31F7-422A-B84D-780BC098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57BAD-E18D-4897-B3A3-531D722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C6392-0F3F-4C0C-B154-1781D6E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1CF72-AAFC-4F3E-827C-7EFB34A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264B7-FA32-4997-AFD5-4A4881D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E7B8C-5D62-4187-A45B-F56ED2F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30CE2-8337-4647-8AA4-8A09D774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DD98B-5323-43A7-9F82-1EFCF7D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86869-D017-4C8B-B116-8515270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56B2F-91B8-4FF2-A0A5-A194E1B5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6372C-DB0A-4163-98AD-D16917D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C0465-C86D-4485-9581-7DFDC304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23DC4-E519-4FDC-AEFA-A429EC11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55F93-037B-49CC-BE55-0068635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B937B-9CFC-489A-A601-6E5CDC9E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64B50-D9B4-4FAD-AB28-AF26E0B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9E242E-D415-47E6-A470-9705A94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67508-79F3-4265-8020-723DCAED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186F6-8A46-4ACC-928C-C0AB1BB1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AC26D-92DB-4AB5-A575-306B7AD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16407-4F2E-4225-9492-24D961FC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BCCC5-87FC-4869-B46C-4C88AED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401A84-55BA-4CA0-B0EF-FA1BC0E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EB0BD-D7B3-49A6-AAE6-7E48CB19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0704C-E8D9-4672-8FBD-00D6CED2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40977-4734-458E-AB12-4E22666D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AA2D3-C830-4937-9ECE-35428565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D45E7-B5AC-4175-9645-CC360D7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D8FC1-AE6F-434D-B553-7C0D06D1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52-211F-40B4-A096-B693C545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27E9B-1CE9-41EB-BC60-1D56D54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12068-4A83-4DCF-8023-6785709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A7BAE-297E-4952-BAEE-B76710A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72A0B-9DA9-4792-BDBA-ACD6902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D6422-844A-459E-8D83-1D2225B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E693A-ACD9-4098-AD2E-AEC81D22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190A3-2488-4877-8B7D-7BD95D26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643AE-0AE7-47A4-B480-48255662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3E49C-624F-476D-BCB9-89391FC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309ED-514B-48D3-AD9B-7D460597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29B-5EBE-4AD1-ACCC-80F189A0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1E48F-69C2-402E-BCBE-ED74A736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E3841-93FD-4DDE-BCF1-EF3023B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453FD-FED9-4219-A590-B05C1A1D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5F45F-01F6-48C0-8335-0A5FEAE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57132-ADB6-4146-B2E2-6CC647D7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56DEE-919C-4DE8-B92B-A4A9C0C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17734-23A4-4A2B-AC54-303CB06A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E62C5-EBCC-4373-949F-9581C8E9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C796C-98E1-46C8-803C-F1AE7BF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982-3A37-4F3E-8127-4A3D9BD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808-D015-4DAB-8F47-14B06127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EE7BC-8268-4292-8631-AB810B6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9B0EB-D1BF-43A9-BA22-F3EB4324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07BF6-007A-4D2E-B397-4BD5AE9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D674F-A3B7-44C2-A64F-A867B1F9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A437F3-D2E7-4A98-BF14-C45B2F3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8182A-D376-484B-AC8F-9BEC38AB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9880A-8764-4077-ADD3-1B8A0D1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F059A-C8DE-4ECC-A18C-BBB9BD1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4AFB8-445F-4678-A767-C9E3EAA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063-1301-4CA0-A711-8D319D2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0454A-229F-46AE-9561-394058A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9F5E92-CF44-4C0F-8327-784508E2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5C160-1658-4380-916E-801FD3B9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537AF1-B819-4E24-9065-3CC63ED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B4695D-85FE-4E2C-B43D-AFA076C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640427-012D-4770-84DB-623C89A0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0F1D8-C94E-44E9-BEAD-1BD8370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F96A96-D942-46D8-9C32-71EBF60D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F24CF9-5FBD-44A5-8A18-C492C85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F848D3-D11F-442D-B58A-085B04E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B1B-D07A-4636-B3FE-394C552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63B9D-B7BE-4665-86CF-11E91A4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CC8C6-B01B-4CC3-B920-7A3DFBB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02084-80A9-40A7-B983-235E99D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F47D80-4B83-4C6B-B621-7B791636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5C538-0430-4C15-9FEE-A0C39811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24C2A-C4B3-48C1-A997-95AE507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A15684-63C1-4E81-9376-CE6B77C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C82CE-BBA7-44BF-BC3E-0AD0AB3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D131EE-54BF-4A3B-832A-2928E56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90BB9-2639-40CE-9834-1199C54C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A64-3EAE-4D12-B5E2-059B9F6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CB89E-A936-4BB1-9FFC-C51F6887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091BB-0669-4159-8AC5-354BB24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ECBAE4-9F27-4845-BDA7-4269D77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210DF-44FB-4E58-99B6-583D4F9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8017F-ACB4-415D-8C87-6F36CB69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F0F5B-FBC6-4B7B-92CF-0ED0CE42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E34C8B-09B4-4BED-9E47-FB58B26E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B7414-2B32-4E38-BF20-524DEAA6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00019-A0AD-49B6-9A8A-33AB281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5E6EB-B1C5-4E8A-8F6C-AC87A49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FE2A-FC1A-4A97-9648-4201C790C1EC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9C9-A7B3-4BF5-B09B-C9977B4964F0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A45-F49A-42DB-81CF-5667AABC1C48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F523-ECD4-49D1-A16F-D9DF562AEBE3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D52C-FB67-4A53-979C-9335DF0478A1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B8D-BB00-427A-9856-D275B2670302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6574-6052-4444-A911-54A955EC035F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F74-B2F4-428B-87B8-F76EAEB5B810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72D-5D09-4928-BE1F-1D13EDF01B1C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5A5-BF8E-4C8C-8467-BE17A53723A2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1ab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62B6-CD21-4B2D-B8E5-3D25DAA108DE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ED08-3F26-4DCF-82A1-DBF70F08A81B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F8D-1013-4BDA-9900-F27005F1CE87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1BE4-87D9-4BD3-BDAC-29C604F8DCB4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E259-3E22-4BE6-8C74-81E234E3D45E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0AA8-AA63-49CF-9A0D-1B27098A0208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A6C7-F29E-4F2F-849B-CFD3D9AEE6E8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8026-BFB6-4B34-898B-3A57EE05C481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b7d7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671-CA9A-43BC-8FE0-D7CEFC8AD51E}" type="slidenum">
              <a:rPr b="0" lang="en-CA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7fd13b"/>
                </a:solidFill>
                <a:latin typeface="Rockwell"/>
              </a:rPr>
              <a:t>Multimedia Presentations</a:t>
            </a:r>
            <a:endParaRPr b="0" lang="en-US" sz="25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Microsoft PowerPoi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ullet points/Numbering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numbered for order/step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ullets equal importa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1" name="Picture 2" descr="http://2.bp.blogspot.com/_jDq3yv0hxKk/TCDhsEdzf2I/AAAAAAAAABU/nf7FR1bvgag/s1600/Bullet+Points.png"/>
          <p:cNvPicPr/>
          <p:nvPr/>
        </p:nvPicPr>
        <p:blipFill>
          <a:blip r:embed="rId1"/>
          <a:stretch/>
        </p:blipFill>
        <p:spPr>
          <a:xfrm>
            <a:off x="4500720" y="3786120"/>
            <a:ext cx="3904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Colour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nsisten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Message and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eel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arm (oranges/reds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ool (greens/blues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General rule: KIS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4" name="Picture 5" descr="MPj04387710000[1]"/>
          <p:cNvPicPr/>
          <p:nvPr/>
        </p:nvPicPr>
        <p:blipFill>
          <a:blip r:embed="rId1"/>
          <a:stretch/>
        </p:blipFill>
        <p:spPr>
          <a:xfrm>
            <a:off x="5786280" y="2428920"/>
            <a:ext cx="2776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ights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mplement/enha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udience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include images, charts, shapes, lines, transitions, animation effect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rinciples of graphic design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571680" y="4929120"/>
          <a:ext cx="6095880" cy="1112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oftware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icrosoft Power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ord Proc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rel Word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ound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Sound byte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Typewriter (text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amera shutter (sound effects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Voice recording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ackground music (CD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0" name="Picture 2" descr="http://www.idancerecords.com/images/SOUND%20EFFECTS.gif"/>
          <p:cNvPicPr/>
          <p:nvPr/>
        </p:nvPicPr>
        <p:blipFill>
          <a:blip r:embed="rId1"/>
          <a:stretch/>
        </p:blipFill>
        <p:spPr>
          <a:xfrm>
            <a:off x="5357880" y="4000680"/>
            <a:ext cx="3362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Sound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ISS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less is mor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nhance messag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eliver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lls and whistles – take away from presentatio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3" name="Picture 2" descr="http://www.lostonwallace.com/kaboomvariant1.jpg"/>
          <p:cNvPicPr/>
          <p:nvPr/>
        </p:nvPicPr>
        <p:blipFill>
          <a:blip r:embed="rId1"/>
          <a:stretch/>
        </p:blipFill>
        <p:spPr>
          <a:xfrm>
            <a:off x="4214880" y="1357200"/>
            <a:ext cx="3700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Avoid death by cheese…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52440" y="201780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eird sound effect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Most transition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Flying text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Strange animations 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Bad clip-art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6" name="Picture 4" descr=""/>
          <p:cNvPicPr/>
          <p:nvPr/>
        </p:nvPicPr>
        <p:blipFill>
          <a:blip r:embed="rId1"/>
          <a:stretch/>
        </p:blipFill>
        <p:spPr>
          <a:xfrm>
            <a:off x="5943600" y="3048120"/>
            <a:ext cx="2971800" cy="1751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5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1600200" cy="15382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"/>
          <p:cNvPicPr/>
          <p:nvPr/>
        </p:nvPicPr>
        <p:blipFill>
          <a:blip r:embed="rId3"/>
          <a:stretch/>
        </p:blipFill>
        <p:spPr>
          <a:xfrm>
            <a:off x="4114800" y="4800600"/>
            <a:ext cx="1954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Delivery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prepar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now your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ractice, practice, practi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ace your audienc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o NOT read slides - guid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11" name="Picture 4" descr="http://engg.entrancecorner.com/images/stories/practice%20perfect.jpg"/>
          <p:cNvPicPr/>
          <p:nvPr/>
        </p:nvPicPr>
        <p:blipFill>
          <a:blip r:embed="rId1"/>
          <a:stretch/>
        </p:blipFill>
        <p:spPr>
          <a:xfrm>
            <a:off x="5643720" y="2286000"/>
            <a:ext cx="3046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Delivery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Distracting behaviour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earl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e organiz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1199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ye Conta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14" name="Picture 2" descr="http://gregweatherdon.com/wp-content/uploads/2011/10/Man-running-clock.jpg"/>
          <p:cNvPicPr/>
          <p:nvPr/>
        </p:nvPicPr>
        <p:blipFill>
          <a:blip r:embed="rId1"/>
          <a:stretch/>
        </p:blipFill>
        <p:spPr>
          <a:xfrm>
            <a:off x="857160" y="4572000"/>
            <a:ext cx="2500560" cy="1662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http://www.graphictivitis.com/wp-content/uploads/2011/08/3-eye-contact-with-the-audience.jpg"/>
          <p:cNvPicPr/>
          <p:nvPr/>
        </p:nvPicPr>
        <p:blipFill>
          <a:blip r:embed="rId2"/>
          <a:stretch/>
        </p:blipFill>
        <p:spPr>
          <a:xfrm>
            <a:off x="3929040" y="2928960"/>
            <a:ext cx="482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Multimedia Presentation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98240" y="1986120"/>
            <a:ext cx="756900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95959"/>
                </a:solidFill>
                <a:latin typeface="Rockwell"/>
              </a:rPr>
              <a:t>Can incorporate elements from all communication media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2" name="Content Placeholder 3" descr=""/>
          <p:cNvPicPr/>
          <p:nvPr/>
        </p:nvPicPr>
        <p:blipFill>
          <a:blip r:embed="rId1"/>
          <a:stretch/>
        </p:blipFill>
        <p:spPr>
          <a:xfrm>
            <a:off x="500040" y="3078000"/>
            <a:ext cx="75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Effective Presentation Components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Content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Design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595959"/>
                </a:solidFill>
                <a:latin typeface="Rockwell"/>
              </a:rPr>
              <a:t>The Delivery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5" name="Picture 2" descr="http://www.freevector.com/site_media/preview_images/FreeVector-Presentation.jpg"/>
          <p:cNvPicPr/>
          <p:nvPr/>
        </p:nvPicPr>
        <p:blipFill>
          <a:blip r:embed="rId1"/>
          <a:stretch/>
        </p:blipFill>
        <p:spPr>
          <a:xfrm>
            <a:off x="4857840" y="2000160"/>
            <a:ext cx="3122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Content – Most Importan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Rockwell"/>
              </a:rPr>
              <a:t>Purpose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Inform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ersuad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ntertai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157a"/>
                </a:solidFill>
                <a:latin typeface="Rockwell"/>
              </a:rPr>
              <a:t>Audience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ee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Manage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ommunity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ction Requir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69" name="Picture 2" descr="http://www.essentialskillsthatwork.com/upload%5C15_services.jpg"/>
          <p:cNvPicPr/>
          <p:nvPr/>
        </p:nvPicPr>
        <p:blipFill>
          <a:blip r:embed="rId1"/>
          <a:stretch/>
        </p:blipFill>
        <p:spPr>
          <a:xfrm>
            <a:off x="7286760" y="214200"/>
            <a:ext cx="15732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Conten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ea157a"/>
                </a:solidFill>
                <a:latin typeface="Rockwell"/>
              </a:rPr>
              <a:t>Research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95959"/>
                </a:solidFill>
                <a:latin typeface="Rockwell"/>
              </a:rPr>
              <a:t>Knowledg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95959"/>
                </a:solidFill>
                <a:latin typeface="Rockwell"/>
              </a:rPr>
              <a:t>Variety of Source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ea157a"/>
                </a:solidFill>
                <a:latin typeface="Rockwell"/>
              </a:rPr>
              <a:t>Organize and Pla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72" name="Picture 2" descr="http://cs.ucsb.edu/~xiaohanzhao/Research%20Projects_files/Research.jpg"/>
          <p:cNvPicPr/>
          <p:nvPr/>
        </p:nvPicPr>
        <p:blipFill>
          <a:blip r:embed="rId1"/>
          <a:stretch/>
        </p:blipFill>
        <p:spPr>
          <a:xfrm>
            <a:off x="4786200" y="214308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Text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Colour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Sights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Sound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6" name="WordArt 6"/>
          <p:cNvSpPr txBox="1"/>
          <p:nvPr/>
        </p:nvSpPr>
        <p:spPr>
          <a:xfrm>
            <a:off x="714240" y="300024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Eras Light ITC"/>
              </a:rPr>
              <a:t>Text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Eras Light ITC"/>
              <a:ea typeface="Eras Light ITC"/>
            </a:endParaRPr>
          </a:p>
        </p:txBody>
      </p:sp>
      <p:pic>
        <p:nvPicPr>
          <p:cNvPr id="977" name="Picture 8" descr="j0173997"/>
          <p:cNvPicPr/>
          <p:nvPr/>
        </p:nvPicPr>
        <p:blipFill>
          <a:blip r:embed="rId1"/>
          <a:stretch/>
        </p:blipFill>
        <p:spPr>
          <a:xfrm>
            <a:off x="4643280" y="278604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10"/>
          <p:cNvSpPr/>
          <p:nvPr/>
        </p:nvSpPr>
        <p:spPr>
          <a:xfrm>
            <a:off x="4114800" y="22096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11" descr="j0283640"/>
          <p:cNvPicPr/>
          <p:nvPr/>
        </p:nvPicPr>
        <p:blipFill>
          <a:blip r:embed="rId2"/>
          <a:stretch/>
        </p:blipFill>
        <p:spPr>
          <a:xfrm>
            <a:off x="4786200" y="478620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2" descr="j0285269"/>
          <p:cNvPicPr/>
          <p:nvPr/>
        </p:nvPicPr>
        <p:blipFill>
          <a:blip r:embed="rId3"/>
          <a:stretch/>
        </p:blipFill>
        <p:spPr>
          <a:xfrm>
            <a:off x="785880" y="4714920"/>
            <a:ext cx="14475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Key points only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less is mor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point form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void abbreviations or acronym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ont appearance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one or two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old/</a:t>
            </a:r>
            <a:r>
              <a:rPr b="0" i="1" lang="en-US" sz="2800" spc="-1" strike="noStrike">
                <a:solidFill>
                  <a:srgbClr val="595959"/>
                </a:solidFill>
                <a:latin typeface="Rockwell"/>
              </a:rPr>
              <a:t>Italics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/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Rockwell"/>
              </a:rPr>
              <a:t>Underlin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used for emphasi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7fd1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85" name="Picture 2" descr="http://www.unselfishblowout.com/KillerText/images/fonts.gif"/>
          <p:cNvPicPr/>
          <p:nvPr/>
        </p:nvPicPr>
        <p:blipFill>
          <a:blip r:embed="rId1"/>
          <a:stretch/>
        </p:blipFill>
        <p:spPr>
          <a:xfrm>
            <a:off x="5000760" y="3786120"/>
            <a:ext cx="32144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fd13b"/>
                </a:solidFill>
                <a:latin typeface="Rockwell"/>
              </a:rPr>
              <a:t>Design</a:t>
            </a:r>
            <a:r>
              <a:rPr b="0" lang="en-CA" sz="3600" spc="-1" strike="noStrike">
                <a:solidFill>
                  <a:srgbClr val="7fd13b"/>
                </a:solidFill>
                <a:latin typeface="Rockwell"/>
              </a:rPr>
              <a:t> - Text</a:t>
            </a:r>
            <a:endParaRPr b="0" lang="en-US" sz="3600" spc="-1" strike="noStrike">
              <a:solidFill>
                <a:srgbClr val="7fd13b"/>
              </a:solidFill>
              <a:latin typeface="Rockwel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ont size (22-48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body minimum – 20 poin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headings larger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sans-serif recommended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6fb7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6 by 6 rul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88" name="Picture 2" descr="http://o5.com/wp-content/uploads/2010/11/presentation-skills.jpg"/>
          <p:cNvPicPr/>
          <p:nvPr/>
        </p:nvPicPr>
        <p:blipFill>
          <a:blip r:embed="rId1"/>
          <a:stretch/>
        </p:blipFill>
        <p:spPr>
          <a:xfrm>
            <a:off x="5357880" y="307188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2:22:45Z</dcterms:created>
  <dc:creator>Mary</dc:creator>
  <dc:description/>
  <dc:language>en-US</dc:language>
  <cp:lastModifiedBy>OCDSB</cp:lastModifiedBy>
  <dcterms:modified xsi:type="dcterms:W3CDTF">2015-10-29T15:58:55Z</dcterms:modified>
  <cp:revision>16</cp:revision>
  <dc:subject/>
  <dc:title>Multimedia Presentations</dc:title>
</cp:coreProperties>
</file>